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917-4C65-46AB-871B-679A7CB5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A24-0F36-4584-964F-978E7E4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540-EC28-4880-AE5F-5123D7E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D73-A813-4792-BFDA-98F70338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E01-38F5-4721-B25D-2F1B998F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5054-FD59-40C6-9468-D740DFD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2ED-AFDF-4867-91CA-77933FD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E21C-4B4F-4097-B862-E5C4666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6F37-FE66-4E15-813F-F69EC8B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4576-A93F-445E-9A04-5945C81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E6C0-2094-45C2-9C44-B1C2E3A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D6B-DF5C-4317-A490-11884EE7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82A0-DB14-4CB5-A1B2-7C0EF86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D7B-D21E-45CF-8B38-852221D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2CFD-1A2D-4C9B-8E37-BE41DAA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3D4-2182-4190-B32F-B0C0DEBD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2342-401C-4E4B-BEC4-C7ECB1B8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173-257D-435A-BDA2-C96D03D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4F3-BC9B-4281-8D0D-E121E71B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CBE-F4C7-4C43-8243-4C8BC902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C87-8EC3-46E1-9BFA-2AC388B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7EE-34CB-4D53-AF15-5C7C222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70F-4DFC-4288-A256-313D7C0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743-F6C1-4131-9353-8A5E2D4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4A8-3DC3-4432-B200-DFC4F624D33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26A-8835-497E-9BDF-E528A0D0BD7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" Target="slide2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5.xml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" Target="slide22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7d47d"/>
                </a:solidFill>
                <a:latin typeface="Arial"/>
              </a:rPr>
              <a:t>Acordul adjectivului cu substantivu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921120" cy="35974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93" name=""/>
          <p:cNvSpPr txBox="1"/>
          <p:nvPr/>
        </p:nvSpPr>
        <p:spPr>
          <a:xfrm>
            <a:off x="4191120" y="1066320"/>
            <a:ext cx="3581280" cy="1676520"/>
          </a:xfrm>
          <a:prstGeom prst="rect">
            <a:avLst/>
          </a:prstGeom>
          <a:solidFill>
            <a:srgbClr val="f7d47d"/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Alegeţi o propoziţi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Recunoaşteţi substantiv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Recunoaşteţi adjectiv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Stabiliţi acordul dintre 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91120"/>
            <a:ext cx="60195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410080"/>
            <a:ext cx="6095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Ochii blânzi şi mângâietori privesc spre copiii vesel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066680"/>
            <a:ext cx="75438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800600"/>
            <a:ext cx="4114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966080" y="1066680"/>
            <a:ext cx="11779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99" name="">
            <a:hlinkClick r:id="rId7" action="ppaction://hlinksldjump"/>
          </p:cNvPr>
          <p:cNvSpPr/>
          <p:nvPr/>
        </p:nvSpPr>
        <p:spPr>
          <a:xfrm>
            <a:off x="228600" y="5943600"/>
            <a:ext cx="3851280" cy="68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Definiţie adjecti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>
            <a:hlinkClick r:id="rId9" action="ppaction://hlinksldjump"/>
          </p:cNvPr>
          <p:cNvSpPr/>
          <p:nvPr/>
        </p:nvSpPr>
        <p:spPr>
          <a:xfrm>
            <a:off x="1447920" y="3048120"/>
            <a:ext cx="5333760" cy="76176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Pletele albe şi creţe ale buniculuiparcă sunt nişte ciorchin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7432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 rot="5400000">
            <a:off x="7543080" y="487656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2" h="21600">
                <a:moveTo>
                  <a:pt x="31570" y="10800"/>
                </a:moveTo>
                <a:lnTo>
                  <a:pt x="21064" y="17806"/>
                </a:lnTo>
                <a:lnTo>
                  <a:pt x="21064" y="3794"/>
                </a:lnTo>
                <a:close/>
              </a:path>
              <a:path fill="darken" w="56142" h="21600">
                <a:moveTo>
                  <a:pt x="33415" y="3794"/>
                </a:moveTo>
                <a:lnTo>
                  <a:pt x="33415" y="17806"/>
                </a:lnTo>
                <a:lnTo>
                  <a:pt x="35077" y="17806"/>
                </a:lnTo>
                <a:lnTo>
                  <a:pt x="35077" y="3794"/>
                </a:lnTo>
                <a:close/>
              </a:path>
            </a:pathLst>
          </a:custGeom>
          <a:solidFill>
            <a:srgbClr val="dc893e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3809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SFÂRŞI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685800" y="480060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ustaţ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209680" y="480060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114800" y="4800600"/>
            <a:ext cx="10666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arb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16761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frumoas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228600" y="541008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6019920"/>
            <a:ext cx="6781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791320" y="990720"/>
            <a:ext cx="1796760" cy="23619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1219320" y="5410080"/>
            <a:ext cx="685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>
            <a:hlinkClick r:id="rId5" action="ppaction://hlinksldjump"/>
          </p:cNvPr>
          <p:cNvSpPr/>
          <p:nvPr/>
        </p:nvSpPr>
        <p:spPr>
          <a:xfrm>
            <a:off x="2057400" y="5410080"/>
            <a:ext cx="1600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lor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>
            <a:hlinkClick r:id="rId6" action="ppaction://hlinksldjump"/>
          </p:cNvPr>
          <p:cNvSpPr/>
          <p:nvPr/>
        </p:nvSpPr>
        <p:spPr>
          <a:xfrm>
            <a:off x="7162920" y="3886200"/>
            <a:ext cx="1758960" cy="49680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>
            <a:hlinkClick r:id="rId7" action="ppaction://hlinksldjump"/>
          </p:cNvPr>
          <p:cNvSpPr/>
          <p:nvPr/>
        </p:nvSpPr>
        <p:spPr>
          <a:xfrm rot="5400000">
            <a:off x="7733880" y="499104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685800" y="480060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ustaţ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2209680" y="480060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10666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arb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5334120" y="4800600"/>
            <a:ext cx="16761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frumoas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228600" y="541008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5943600" y="1066680"/>
            <a:ext cx="1681200" cy="22100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1219320" y="5410080"/>
            <a:ext cx="685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2057400" y="5410080"/>
            <a:ext cx="1600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lor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1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26800"/>
            <a:ext cx="647676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Mustaţa  lungă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181480" y="281952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Mustaţa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1274760" cy="1676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22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5105520" y="4876920"/>
            <a:ext cx="18288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2666880" y="5791320"/>
            <a:ext cx="495324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singular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160" y="226800"/>
            <a:ext cx="647676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barba frumoasă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105520" y="304812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arba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1274760" cy="1676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4876920" y="4876920"/>
            <a:ext cx="20574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frumoas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2666880" y="5791320"/>
            <a:ext cx="495324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singular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76760" cy="611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715000" y="411480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opiilo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40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1523880" y="5105520"/>
            <a:ext cx="609624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30492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braj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1752480" y="4952880"/>
            <a:ext cx="15242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3352680" y="4952880"/>
            <a:ext cx="10670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era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495680" y="495288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roş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5715000"/>
            <a:ext cx="7086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5943600" y="99072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62485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alz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>
            <a:hlinkClick r:id="rId6" action="ppaction://hlinksldjump"/>
          </p:cNvPr>
          <p:cNvSpPr/>
          <p:nvPr/>
        </p:nvSpPr>
        <p:spPr>
          <a:xfrm>
            <a:off x="7162920" y="3886200"/>
            <a:ext cx="1758960" cy="49680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>
            <a:hlinkClick r:id="rId7" action="ppaction://hlinksldjump"/>
          </p:cNvPr>
          <p:cNvSpPr/>
          <p:nvPr/>
        </p:nvSpPr>
        <p:spPr>
          <a:xfrm rot="5400000">
            <a:off x="7733880" y="499104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30492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braj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1752480" y="4952880"/>
            <a:ext cx="15242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3352680" y="4952880"/>
            <a:ext cx="10670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era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4495680" y="495288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roş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9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5562720" y="1219320"/>
            <a:ext cx="17380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>
            <a:hlinkClick r:id="rId5" action="ppaction://hlinksldjump"/>
          </p:cNvPr>
          <p:cNvSpPr/>
          <p:nvPr/>
        </p:nvSpPr>
        <p:spPr>
          <a:xfrm>
            <a:off x="62485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alz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41907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Adjectivu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4191120"/>
            <a:ext cx="7238880" cy="213336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are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acelaşi numă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cu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pe care îl însoţeşte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se acordă în numă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cu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an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1600200"/>
            <a:ext cx="7315200" cy="236232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Partea de vorbire care exprimă </a:t>
            </a:r>
            <a:r>
              <a:rPr b="1" lang="ro-RO" sz="4400" spc="-1" strike="noStrike">
                <a:solidFill>
                  <a:srgbClr val="ff3300"/>
                </a:solidFill>
                <a:latin typeface="Times New Roman"/>
              </a:rPr>
              <a:t>însuşirea</a:t>
            </a: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unei fiinţe, unui lucru sau a unui fenomen al naturii se numşte 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adjectiv</a:t>
            </a:r>
            <a:r>
              <a:rPr b="1" lang="ro-RO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001000" y="4572000"/>
            <a:ext cx="914400" cy="17524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752480"/>
              <a:gd name="textAreaBottom" fmla="*/ 1693440 h 1752480"/>
            </a:gdLst>
            <a:ahLst/>
            <a:rect l="textAreaLeft" t="textAreaTop" r="textAreaRight" b="textAreaBottom"/>
            <a:pathLst>
              <a:path w="21600" h="41389">
                <a:moveTo>
                  <a:pt x="0" y="0"/>
                </a:moveTo>
                <a:lnTo>
                  <a:pt x="21600" y="0"/>
                </a:lnTo>
                <a:lnTo>
                  <a:pt x="21600" y="41389"/>
                </a:lnTo>
                <a:lnTo>
                  <a:pt x="0" y="41389"/>
                </a:lnTo>
                <a:close/>
              </a:path>
              <a:path fill="lightenLess" w="21600" h="413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389">
                <a:moveTo>
                  <a:pt x="21600" y="0"/>
                </a:moveTo>
                <a:lnTo>
                  <a:pt x="21600" y="41389"/>
                </a:lnTo>
                <a:lnTo>
                  <a:pt x="20200" y="39989"/>
                </a:lnTo>
                <a:lnTo>
                  <a:pt x="20200" y="1400"/>
                </a:lnTo>
                <a:close/>
              </a:path>
              <a:path fill="darkenLess" w="21600" h="41389">
                <a:moveTo>
                  <a:pt x="21600" y="41389"/>
                </a:moveTo>
                <a:lnTo>
                  <a:pt x="0" y="41389"/>
                </a:lnTo>
                <a:lnTo>
                  <a:pt x="1400" y="39989"/>
                </a:lnTo>
                <a:lnTo>
                  <a:pt x="20200" y="39989"/>
                </a:lnTo>
                <a:close/>
              </a:path>
              <a:path fill="lighten" w="21600" h="41389">
                <a:moveTo>
                  <a:pt x="0" y="413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9989"/>
                </a:lnTo>
                <a:close/>
              </a:path>
              <a:path fill="darken" w="21600" h="41389">
                <a:moveTo>
                  <a:pt x="3794" y="17387"/>
                </a:moveTo>
                <a:lnTo>
                  <a:pt x="7301" y="17387"/>
                </a:lnTo>
                <a:lnTo>
                  <a:pt x="7301" y="22723"/>
                </a:lnTo>
                <a:cubicBezTo>
                  <a:pt x="7301" y="23645"/>
                  <a:pt x="8102" y="24376"/>
                  <a:pt x="9138" y="24376"/>
                </a:cubicBezTo>
                <a:lnTo>
                  <a:pt x="10800" y="24376"/>
                </a:lnTo>
                <a:cubicBezTo>
                  <a:pt x="11836" y="24376"/>
                  <a:pt x="12636" y="23645"/>
                  <a:pt x="12636" y="22723"/>
                </a:cubicBezTo>
                <a:lnTo>
                  <a:pt x="12636" y="17387"/>
                </a:lnTo>
                <a:lnTo>
                  <a:pt x="10800" y="17387"/>
                </a:lnTo>
                <a:lnTo>
                  <a:pt x="14308" y="13880"/>
                </a:lnTo>
                <a:lnTo>
                  <a:pt x="17981" y="17387"/>
                </a:lnTo>
                <a:lnTo>
                  <a:pt x="16144" y="17387"/>
                </a:lnTo>
                <a:lnTo>
                  <a:pt x="16144" y="22723"/>
                </a:lnTo>
                <a:cubicBezTo>
                  <a:pt x="16144" y="25490"/>
                  <a:pt x="13568" y="28049"/>
                  <a:pt x="10800" y="28049"/>
                </a:cubicBezTo>
                <a:lnTo>
                  <a:pt x="9138" y="28049"/>
                </a:lnTo>
                <a:cubicBezTo>
                  <a:pt x="6370" y="28049"/>
                  <a:pt x="3794" y="25490"/>
                  <a:pt x="3794" y="227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8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buniculu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419720" y="4648320"/>
            <a:ext cx="22860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uniculu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824440" y="1066680"/>
            <a:ext cx="1565280" cy="20574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1219320" y="5486400"/>
            <a:ext cx="624816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Obraji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bunicului erau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roşi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şi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calz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4572000" y="3124080"/>
            <a:ext cx="19051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Obraji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2286000" y="4800600"/>
            <a:ext cx="19051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roşi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572000" y="4800600"/>
            <a:ext cx="19051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calz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1905120" y="586728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3495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533520" y="4952880"/>
            <a:ext cx="12189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chii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19051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320040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3809880" y="4952880"/>
            <a:ext cx="19051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rives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533520" y="55627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pr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1523880" y="5562720"/>
            <a:ext cx="12956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2952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vesel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142640" y="6172200"/>
            <a:ext cx="6705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5867280" y="137160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>
            <a:hlinkClick r:id="rId6" action="ppaction://hlinksldjump"/>
          </p:cNvPr>
          <p:cNvSpPr/>
          <p:nvPr/>
        </p:nvSpPr>
        <p:spPr>
          <a:xfrm>
            <a:off x="7162920" y="4267080"/>
            <a:ext cx="1758960" cy="49716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>
            <a:hlinkClick r:id="rId7" action="ppaction://hlinksldjump"/>
          </p:cNvPr>
          <p:cNvSpPr/>
          <p:nvPr/>
        </p:nvSpPr>
        <p:spPr>
          <a:xfrm rot="5400000">
            <a:off x="7733880" y="53719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42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3495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533520" y="4952880"/>
            <a:ext cx="12189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chii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19051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320040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">
            <a:hlinkClick r:id="rId3" action="ppaction://hlinksldjump"/>
          </p:cNvPr>
          <p:cNvSpPr/>
          <p:nvPr/>
        </p:nvSpPr>
        <p:spPr>
          <a:xfrm>
            <a:off x="3809880" y="4952880"/>
            <a:ext cx="19051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rives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533520" y="55627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pr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1523880" y="5562720"/>
            <a:ext cx="12956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">
            <a:hlinkClick r:id="rId4" action="ppaction://hlinksldjump"/>
          </p:cNvPr>
          <p:cNvSpPr/>
          <p:nvPr/>
        </p:nvSpPr>
        <p:spPr>
          <a:xfrm>
            <a:off x="2971800" y="5562720"/>
            <a:ext cx="12952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vesel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7380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43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Ochii blânzi şi mângâietori</a:t>
            </a: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352680" cy="307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3733920" y="198108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Ochii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substantivele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926480" y="152388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1447920" y="312408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1447920" y="4114800"/>
            <a:ext cx="18288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1447920" y="510552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3581280" y="4114800"/>
            <a:ext cx="25909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">
            <a:hlinkClick r:id="rId4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copiii veseli</a:t>
            </a: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352680" cy="307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3733920" y="198108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opiii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substantivele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926480" y="30492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1447920" y="312408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1447920" y="510552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3581280" y="4114800"/>
            <a:ext cx="25909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vese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">
            <a:hlinkClick r:id="rId4" action="ppaction://hlinksldjump"/>
          </p:cNvPr>
          <p:cNvSpPr/>
          <p:nvPr/>
        </p:nvSpPr>
        <p:spPr>
          <a:xfrm>
            <a:off x="8077320" y="4952880"/>
            <a:ext cx="914400" cy="14479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920"/>
              <a:gd name="textAreaBottom" fmla="*/ 1388880 h 1447920"/>
            </a:gdLst>
            <a:ahLst/>
            <a:rect l="textAreaLeft" t="textAreaTop" r="textAreaRight" b="textAreaBottom"/>
            <a:pathLst>
              <a:path w="21600" h="34198">
                <a:moveTo>
                  <a:pt x="0" y="0"/>
                </a:moveTo>
                <a:lnTo>
                  <a:pt x="21600" y="0"/>
                </a:lnTo>
                <a:lnTo>
                  <a:pt x="21600" y="34198"/>
                </a:lnTo>
                <a:lnTo>
                  <a:pt x="0" y="34198"/>
                </a:lnTo>
                <a:close/>
              </a:path>
              <a:path fill="lightenLess" w="21600" h="34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98">
                <a:moveTo>
                  <a:pt x="21600" y="0"/>
                </a:moveTo>
                <a:lnTo>
                  <a:pt x="21600" y="34198"/>
                </a:lnTo>
                <a:lnTo>
                  <a:pt x="20200" y="32798"/>
                </a:lnTo>
                <a:lnTo>
                  <a:pt x="20200" y="1400"/>
                </a:lnTo>
                <a:close/>
              </a:path>
              <a:path fill="darkenLess" w="21600" h="34198">
                <a:moveTo>
                  <a:pt x="21600" y="34198"/>
                </a:moveTo>
                <a:lnTo>
                  <a:pt x="0" y="34198"/>
                </a:lnTo>
                <a:lnTo>
                  <a:pt x="1400" y="32798"/>
                </a:lnTo>
                <a:lnTo>
                  <a:pt x="20200" y="32798"/>
                </a:lnTo>
                <a:close/>
              </a:path>
              <a:path fill="lighten" w="21600" h="34198">
                <a:moveTo>
                  <a:pt x="0" y="34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98"/>
                </a:lnTo>
                <a:close/>
              </a:path>
              <a:path fill="darken" w="21600" h="34198">
                <a:moveTo>
                  <a:pt x="3794" y="13792"/>
                </a:moveTo>
                <a:lnTo>
                  <a:pt x="7301" y="13792"/>
                </a:lnTo>
                <a:lnTo>
                  <a:pt x="7301" y="19127"/>
                </a:lnTo>
                <a:cubicBezTo>
                  <a:pt x="7301" y="20049"/>
                  <a:pt x="8102" y="20781"/>
                  <a:pt x="9138" y="20781"/>
                </a:cubicBezTo>
                <a:lnTo>
                  <a:pt x="10800" y="20781"/>
                </a:lnTo>
                <a:cubicBezTo>
                  <a:pt x="11836" y="20781"/>
                  <a:pt x="12636" y="20049"/>
                  <a:pt x="12636" y="19127"/>
                </a:cubicBezTo>
                <a:lnTo>
                  <a:pt x="12636" y="13792"/>
                </a:lnTo>
                <a:lnTo>
                  <a:pt x="10800" y="13792"/>
                </a:lnTo>
                <a:lnTo>
                  <a:pt x="14308" y="10284"/>
                </a:lnTo>
                <a:lnTo>
                  <a:pt x="17981" y="13792"/>
                </a:lnTo>
                <a:lnTo>
                  <a:pt x="16144" y="13792"/>
                </a:lnTo>
                <a:lnTo>
                  <a:pt x="16144" y="19127"/>
                </a:lnTo>
                <a:cubicBezTo>
                  <a:pt x="16144" y="21895"/>
                  <a:pt x="13568" y="24454"/>
                  <a:pt x="10800" y="24454"/>
                </a:cubicBezTo>
                <a:lnTo>
                  <a:pt x="9138" y="24454"/>
                </a:lnTo>
                <a:cubicBezTo>
                  <a:pt x="6370" y="24454"/>
                  <a:pt x="3794" y="21895"/>
                  <a:pt x="3794" y="19127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 rot="5400000">
            <a:off x="7543080" y="281916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2" h="21600">
                <a:moveTo>
                  <a:pt x="31570" y="10800"/>
                </a:moveTo>
                <a:lnTo>
                  <a:pt x="21064" y="17806"/>
                </a:lnTo>
                <a:lnTo>
                  <a:pt x="21064" y="3794"/>
                </a:lnTo>
                <a:close/>
              </a:path>
              <a:path fill="darken" w="56142" h="21600">
                <a:moveTo>
                  <a:pt x="33415" y="3794"/>
                </a:moveTo>
                <a:lnTo>
                  <a:pt x="33415" y="17806"/>
                </a:lnTo>
                <a:lnTo>
                  <a:pt x="35077" y="17806"/>
                </a:lnTo>
                <a:lnTo>
                  <a:pt x="35077" y="3794"/>
                </a:lnTo>
                <a:close/>
              </a:path>
            </a:pathLst>
          </a:custGeom>
          <a:solidFill>
            <a:srgbClr val="dc893e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48720" y="4267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00"/>
                </a:solidFill>
                <a:latin typeface="Arial"/>
              </a:rPr>
              <a:t>SFÂRŞI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23888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99"/>
                </a:solidFill>
                <a:latin typeface="Arial"/>
              </a:rPr>
              <a:t>Acordul adjectivului cu substantivul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8229600" y="762120"/>
            <a:ext cx="685800" cy="13716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371600"/>
              <a:gd name="textAreaBottom" fmla="*/ 1327320 h 1371600"/>
            </a:gdLst>
            <a:ahLst/>
            <a:rect l="textAreaLeft" t="textAreaTop" r="textAreaRight" b="textAreaBottom"/>
            <a:pathLst>
              <a:path w="21600" h="43189">
                <a:moveTo>
                  <a:pt x="0" y="0"/>
                </a:moveTo>
                <a:lnTo>
                  <a:pt x="21600" y="0"/>
                </a:lnTo>
                <a:lnTo>
                  <a:pt x="21600" y="43189"/>
                </a:lnTo>
                <a:lnTo>
                  <a:pt x="0" y="43189"/>
                </a:lnTo>
                <a:close/>
              </a:path>
              <a:path fill="lightenLess" w="21600" h="43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89">
                <a:moveTo>
                  <a:pt x="21600" y="0"/>
                </a:moveTo>
                <a:lnTo>
                  <a:pt x="21600" y="43189"/>
                </a:lnTo>
                <a:lnTo>
                  <a:pt x="20200" y="41789"/>
                </a:lnTo>
                <a:lnTo>
                  <a:pt x="20200" y="1400"/>
                </a:lnTo>
                <a:close/>
              </a:path>
              <a:path fill="darkenLess" w="21600" h="43189">
                <a:moveTo>
                  <a:pt x="21600" y="43189"/>
                </a:moveTo>
                <a:lnTo>
                  <a:pt x="0" y="43189"/>
                </a:lnTo>
                <a:lnTo>
                  <a:pt x="1400" y="41789"/>
                </a:lnTo>
                <a:lnTo>
                  <a:pt x="20200" y="41789"/>
                </a:lnTo>
                <a:close/>
              </a:path>
              <a:path fill="lighten" w="21600" h="43189">
                <a:moveTo>
                  <a:pt x="0" y="43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89"/>
                </a:lnTo>
                <a:close/>
              </a:path>
              <a:path fill="darken" w="21600" h="43189">
                <a:moveTo>
                  <a:pt x="3794" y="18287"/>
                </a:moveTo>
                <a:lnTo>
                  <a:pt x="7301" y="18287"/>
                </a:lnTo>
                <a:lnTo>
                  <a:pt x="7301" y="23622"/>
                </a:lnTo>
                <a:cubicBezTo>
                  <a:pt x="7301" y="24545"/>
                  <a:pt x="8102" y="25276"/>
                  <a:pt x="9138" y="25276"/>
                </a:cubicBezTo>
                <a:lnTo>
                  <a:pt x="10800" y="25276"/>
                </a:lnTo>
                <a:cubicBezTo>
                  <a:pt x="11836" y="25276"/>
                  <a:pt x="12636" y="24545"/>
                  <a:pt x="12636" y="23622"/>
                </a:cubicBezTo>
                <a:lnTo>
                  <a:pt x="12636" y="18287"/>
                </a:lnTo>
                <a:lnTo>
                  <a:pt x="10800" y="18287"/>
                </a:lnTo>
                <a:lnTo>
                  <a:pt x="14308" y="14779"/>
                </a:lnTo>
                <a:lnTo>
                  <a:pt x="17981" y="18287"/>
                </a:lnTo>
                <a:lnTo>
                  <a:pt x="16144" y="18287"/>
                </a:lnTo>
                <a:lnTo>
                  <a:pt x="16144" y="23622"/>
                </a:lnTo>
                <a:cubicBezTo>
                  <a:pt x="16144" y="26390"/>
                  <a:pt x="13568" y="28949"/>
                  <a:pt x="10800" y="28949"/>
                </a:cubicBezTo>
                <a:lnTo>
                  <a:pt x="9138" y="28949"/>
                </a:lnTo>
                <a:cubicBezTo>
                  <a:pt x="6370" y="28949"/>
                  <a:pt x="3794" y="26390"/>
                  <a:pt x="3794" y="2362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28600" y="4191120"/>
            <a:ext cx="7238880" cy="213336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0b854"/>
                </a:solidFill>
                <a:latin typeface="Arial"/>
              </a:rPr>
              <a:t>Adjectivul are acelaşi număr cu substantivul pe care îl însoţeş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0b854"/>
                </a:solidFill>
                <a:latin typeface="Arial"/>
              </a:rPr>
              <a:t>Adjectivul se acordă în număr cu subsantivu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371600" y="4724280"/>
            <a:ext cx="48769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83137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SFÂRŞIT</a:t>
            </a:r>
            <a:endParaRPr b="0" lang="en-US" sz="8000" spc="1" strike="noStrike">
              <a:ln w="190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>
                      <a:alpha val="83137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5" name="">
            <a:hlinkClick r:id="" action="ppaction://hlinkshowjump?jump=endshow"/>
          </p:cNvPr>
          <p:cNvSpPr/>
          <p:nvPr/>
        </p:nvSpPr>
        <p:spPr>
          <a:xfrm rot="5400000">
            <a:off x="8076600" y="586728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f0b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238880" cy="8380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Pletele albe şi creţe ale bunicului parcă sunt nişte ciorchini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733560" cy="3426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1066680" y="4876920"/>
            <a:ext cx="12193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lete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438280" y="4876920"/>
            <a:ext cx="8384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b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038480" y="487692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reţ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304920" y="5486400"/>
            <a:ext cx="9903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arc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1371600" y="548640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362320" y="548640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nişt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3429000" y="548640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iorchin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90720" y="6019920"/>
            <a:ext cx="6781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638680" y="1143000"/>
            <a:ext cx="1797120" cy="2362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105520" y="48769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>
            <a:hlinkClick r:id="rId6" action="ppaction://hlinksldjump"/>
          </p:cNvPr>
          <p:cNvSpPr/>
          <p:nvPr/>
        </p:nvSpPr>
        <p:spPr>
          <a:xfrm>
            <a:off x="6095880" y="4876920"/>
            <a:ext cx="14479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>
            <a:hlinkClick r:id="rId7" action="ppaction://hlinksldjump"/>
          </p:cNvPr>
          <p:cNvSpPr/>
          <p:nvPr/>
        </p:nvSpPr>
        <p:spPr>
          <a:xfrm rot="5400000">
            <a:off x="7733880" y="529596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97" h="21600">
                <a:moveTo>
                  <a:pt x="24042" y="3794"/>
                </a:moveTo>
                <a:lnTo>
                  <a:pt x="38055" y="10800"/>
                </a:lnTo>
                <a:lnTo>
                  <a:pt x="24042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>
            <a:hlinkClick r:id="rId8" action="ppaction://hlinksldjump"/>
          </p:cNvPr>
          <p:cNvSpPr/>
          <p:nvPr/>
        </p:nvSpPr>
        <p:spPr>
          <a:xfrm>
            <a:off x="7162920" y="4267080"/>
            <a:ext cx="1758960" cy="49716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6576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Pletele albe şi creţe ale bunicului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1066680" y="4876920"/>
            <a:ext cx="12193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lete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2438280" y="4876920"/>
            <a:ext cx="8384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b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4038480" y="487692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reţ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28600" y="548640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arc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1371600" y="548640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2362320" y="548640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nişt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3505320" y="548640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iorchin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193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943600" y="990720"/>
            <a:ext cx="173844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5105520" y="4876920"/>
            <a:ext cx="7617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6019920" y="487692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bunicului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257800" y="3124080"/>
            <a:ext cx="16002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Plete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121788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167652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3581280" y="4876920"/>
            <a:ext cx="16002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lbe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5867280" y="4876920"/>
            <a:ext cx="16002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creţe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1828800" y="5791320"/>
            <a:ext cx="58672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bunicului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5257800" y="4191120"/>
            <a:ext cx="21337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uniculu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226200" y="1143000"/>
            <a:ext cx="1392120" cy="1828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1371600" y="5105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30481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bunicului parcă sunt nişt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iorchini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257800" y="4191120"/>
            <a:ext cx="21337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iorchin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248520" y="990720"/>
            <a:ext cx="1508040" cy="1981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1371600" y="5105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2004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8:49:58Z</dcterms:created>
  <dc:creator>*Paulis</dc:creator>
  <dc:description/>
  <dc:language>en-US</dc:language>
  <cp:lastModifiedBy>*</cp:lastModifiedBy>
  <dcterms:modified xsi:type="dcterms:W3CDTF">2007-02-11T22:38:21Z</dcterms:modified>
  <cp:revision>7</cp:revision>
  <dc:subject>Limba romana</dc:subject>
  <dc:title>Acordul adjectivului cu substantivul</dc:title>
</cp:coreProperties>
</file>